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9461-8422-434A-BDAF-E890C34C1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cution of J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1934, most Jewish lawyers, doctors, professors, civil servants, and musicians had lost their jobs and the right to practice their profe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remburg Law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1935 deprived Jews of all rights of citize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938, 25% of German Jews had emigrated (many were the "cream of the crop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ristallnach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“The Night of Broken Glass”) -- 19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ssassination of a German diplomat in Paris by young Jewish boy as pretense, Hitler ordered an attack on Jewish commun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-organized wave of violence destroyed homes, synagogues, and busin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sands of Jews were arrested and made to pay for the da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locau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6 million European Jews eventually killed during WWII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"Final Solution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ictims of persecution included Slavs, Gypsies, Jehovah’s Witnesses, communists, homosexuals, mentally and physically handicapped, and political opponents (totaled 6 million by 19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C69-B63D-4C1C-A923-E479D8BF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44E-3566-49D1-B6F8-7A8CAACF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D6B0-A57C-4B91-B6EA-09A0039B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FC4-E285-4964-A7BC-F6389263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174-18AC-49DC-B2C2-3F450E82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D3E-BB08-4908-9B74-6BC20DD5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07A-4CA0-4121-A158-8FDC6EC5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912-83D9-4946-A330-735FA96A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3C8-8AD3-47AB-A6D5-254DE7F2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93D3-ECA5-472D-A762-ED0DD865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A9C3-EA84-453D-B1BE-B57CABE8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EBFA-3C1C-42B5-8FE5-313F997D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EEC0-56E3-43C4-8314-7D59923F4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istoryplace.com/worldwar2/holocaust/h-statistics.htm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layer.discoveryeducation.com/index.cfm?guidAssetId=3DFB93EC-03CA-46D6-80B3-EA61EB85A659&amp;blnFromSearch=1&amp;productcode=US" TargetMode="External"/><Relationship Id="rId3" Type="http://schemas.openxmlformats.org/officeDocument/2006/relationships/hyperlink" Target="http://player.discoveryeducation.com/index.cfm?guidAssetId=D70DB56E-92CC-4B21-8AC6-DACFC230EF69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layer.discoveryeducation.com/index.cfm?guidAssetId=3DFB93EC-03CA-46D6-80B3-EA61EB85A659&amp;blnFromSearch=1&amp;productcode=US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loca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, Events, &amp;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514600" y="939960"/>
            <a:ext cx="5168880" cy="56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1066680" y="152280"/>
            <a:ext cx="8001000" cy="74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d80000"/>
                </a:solidFill>
                <a:latin typeface="Nosferatu"/>
              </a:rPr>
              <a:t>Horrors</a:t>
            </a:r>
            <a:r>
              <a:rPr b="1" lang="en-US" sz="3500" spc="-1" strike="noStrike">
                <a:solidFill>
                  <a:srgbClr val="d80000"/>
                </a:solidFill>
                <a:latin typeface="Comic Sans MS"/>
              </a:rPr>
              <a:t> of the Holocaust Expos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95280" y="1047600"/>
            <a:ext cx="4340520" cy="317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1676520" y="44766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matoria at Majda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191120" y="3638520"/>
            <a:ext cx="4627440" cy="29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6705720" y="2739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rance to Auschwi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152280"/>
            <a:ext cx="8001000" cy="74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d80000"/>
                </a:solidFill>
                <a:latin typeface="Nosferatu"/>
              </a:rPr>
              <a:t>Horrors</a:t>
            </a:r>
            <a:r>
              <a:rPr b="1" lang="en-US" sz="3500" spc="-1" strike="noStrike">
                <a:solidFill>
                  <a:srgbClr val="d80000"/>
                </a:solidFill>
                <a:latin typeface="Comic Sans MS"/>
              </a:rPr>
              <a:t> of the Holocaust Expos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66680" y="289080"/>
            <a:ext cx="8001000" cy="74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d80000"/>
                </a:solidFill>
                <a:latin typeface="Nosferatu"/>
              </a:rPr>
              <a:t>Horrors</a:t>
            </a:r>
            <a:r>
              <a:rPr b="1" lang="en-US" sz="3500" spc="-1" strike="noStrike">
                <a:solidFill>
                  <a:srgbClr val="d80000"/>
                </a:solidFill>
                <a:latin typeface="Comic Sans MS"/>
              </a:rPr>
              <a:t> of the Holocaust Expos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60958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lave Labor at Buchenw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905120" y="1066680"/>
            <a:ext cx="624816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212760"/>
            <a:ext cx="800100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80000"/>
                </a:solidFill>
                <a:latin typeface="Comic Sans MS"/>
              </a:rPr>
              <a:t>Horrors of the Holocaust Expos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60199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ss Graves at Bergen-Bel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38280" y="1066680"/>
            <a:ext cx="5181840" cy="48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ocaust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 History Place - Holocaust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95280" y="76320"/>
            <a:ext cx="75438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80000"/>
                </a:solidFill>
                <a:latin typeface="Comic Sans MS"/>
              </a:rPr>
              <a:t>The Nuremberg War Trials:</a:t>
            </a:r>
            <a:br>
              <a:rPr sz="3800"/>
            </a:br>
            <a:r>
              <a:rPr b="1" i="1" lang="en-US" sz="3400" spc="-1" strike="noStrike">
                <a:solidFill>
                  <a:srgbClr val="d80000"/>
                </a:solidFill>
                <a:latin typeface="Comic Sans MS"/>
              </a:rPr>
              <a:t>Crimes Against Human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752480" y="1422360"/>
            <a:ext cx="6553440" cy="520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ECUTION OF THE J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itler Comes to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egregation and Persecution of the J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was not one of them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First they came for the Communists but I was not a Communist so I did not speak out; Then they came for the Socialists and Trade Unionists but I was not one of them, so I did not speak out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y came for the Jews but I was not Jewish, so I did not Speak out. And when they came for me, there was no one left to speak out for m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n Niemoller 1892 - 19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ECUTION OF THE J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litica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y the end of 1934, most Jewish lawyers, doctors, professors, civil servants, and musicians had lost their jobs and the right to practice their profes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uremburg Laws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of 1935 deprived Jews of all rights of citizen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y 1938, 25% of German Jews had emigrated (many were the "cream of the crop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ocia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ristallnach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“The Night of Broken Glass”) -- 19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ing assassination of a German diplomat in Paris by young Jewish boy as pretense, Hitler ordered an attack on Jewish commun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ell-organized wave of violence destroyed homes, synagogues, and busin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ousands of Jews were arrested and made to pay for the damage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Semitic Cart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5333760" cy="3733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32080" y="5599080"/>
            <a:ext cx="66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RY OF EDUCATION REMOVING JEWISH 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Cart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464832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4120" y="140796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norant, lured by gol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tand disgraced in Judah's fo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ls poisoned, blood infect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aster broods in their womb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Cart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388620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56160" y="1789200"/>
            <a:ext cx="4587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rtoon shows a Jew politely asking for room on the bench, after which he shoves the previous inhabitant off. The poem notes that Jews behave the same way in other sit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308640" y="1103400"/>
            <a:ext cx="283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is not worth li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one does not resist the parasi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satisfied as it creeps abo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must and will w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63800" y="26820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er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LOCA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the Concentration C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f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in the Concentration C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01:11:52Z</dcterms:created>
  <dc:creator> </dc:creator>
  <dc:description/>
  <dc:language>en-US</dc:language>
  <cp:lastModifiedBy>School District U46</cp:lastModifiedBy>
  <dcterms:modified xsi:type="dcterms:W3CDTF">2011-02-07T15:19:54Z</dcterms:modified>
  <cp:revision>12</cp:revision>
  <dc:subject/>
  <dc:title>The Holocaust</dc:title>
</cp:coreProperties>
</file>